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534-9F77-40BF-8ECC-1CBC46C9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1DC-763B-4B82-810C-A341C35D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AB9-6308-4539-95D3-76D2D9E3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99A-77F2-48D4-AC18-722A9084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B91-826A-4F59-8C4E-77B1BE6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98D-FA67-4B47-B03E-CE6A8124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83B-A134-4B7D-88A1-021015D4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6D7-4D87-4EAA-916E-E0FFDAC1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F8F-7FC2-4975-8002-F4B5CED8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495-08DD-47D0-8B34-0140719A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262-1138-4877-862F-F97044B2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6A8-CAB3-4FE4-B763-4DB86AF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5217-C619-4B23-B0C5-F915788CA4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-303120" y="155736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EX  PRESIDENTS                        EX  PRESIDENTS                           EX  PRESIDENT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5" descr="Stirling Ex Presidents 2.jpg"/>
          <p:cNvPicPr/>
          <p:nvPr/>
        </p:nvPicPr>
        <p:blipFill>
          <a:blip r:embed="rId1"/>
          <a:stretch/>
        </p:blipFill>
        <p:spPr>
          <a:xfrm>
            <a:off x="272880" y="333360"/>
            <a:ext cx="11574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Stirling Ex Presidents 3.JPG"/>
          <p:cNvPicPr/>
          <p:nvPr/>
        </p:nvPicPr>
        <p:blipFill>
          <a:blip r:embed="rId2"/>
          <a:stretch/>
        </p:blipFill>
        <p:spPr>
          <a:xfrm>
            <a:off x="2000160" y="54936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tirling Ex Pressidents 50th.JPG"/>
          <p:cNvPicPr/>
          <p:nvPr/>
        </p:nvPicPr>
        <p:blipFill>
          <a:blip r:embed="rId3"/>
          <a:stretch/>
        </p:blipFill>
        <p:spPr>
          <a:xfrm>
            <a:off x="3513240" y="333360"/>
            <a:ext cx="12254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10:24Z</dcterms:modified>
  <cp:revision>30</cp:revision>
  <dc:subject/>
  <dc:title>PowerPoint Presentation</dc:title>
</cp:coreProperties>
</file>